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7.jpeg" ContentType="image/jpeg"/>
  <Override PartName="/ppt/media/image4.png" ContentType="image/png"/>
  <Override PartName="/ppt/media/image5.pct" ContentType="image/x-pict"/>
  <Override PartName="/ppt/media/image6.pct" ContentType="image/x-pi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377-A7FB-49FD-8258-34A4361E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A54-B628-4B10-BB55-67D1C338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763-8523-4F73-BF95-3D9915BB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C49-B16C-403C-A5C2-EBBC71F2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9AD-449C-47D6-80E8-BC91581F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A30-C9B8-4D43-B1FA-D385FF74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139-524E-4253-B2C1-960BC38B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AA2-49D2-45E4-8399-476F968E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5FB-220D-4345-908D-F96D69C8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2D7-6456-44A2-B2E3-0ECE0FCB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520-5990-4924-ABE7-C1E1B949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A0C-62F6-4FB6-8A57-F6F7D69C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8EDE-98A3-424D-AA57-5FBF62B41AF9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Lucida Handwriting"/>
              </a:rPr>
              <a:t>GDR-Neutrino </a:t>
            </a:r>
            <a:r>
              <a:rPr b="0" lang="en-GB" sz="1400" spc="-1" strike="noStrike">
                <a:solidFill>
                  <a:srgbClr val="000000"/>
                </a:solidFill>
                <a:latin typeface="Lucida Handwriting"/>
              </a:rPr>
              <a:t>(10-11 mai 2006)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L. Mosca (CEA-Saclay)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The </a:t>
            </a:r>
            <a:r>
              <a:rPr b="1" lang="en-GB" sz="2400" spc="-1" strike="noStrike">
                <a:solidFill>
                  <a:srgbClr val="800000"/>
                </a:solidFill>
                <a:latin typeface="Lucida Handwriting"/>
              </a:rPr>
              <a:t>MEMPHYS </a:t>
            </a: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project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30000"/>
                </a:solidFill>
                <a:latin typeface="Lucida Handwriting"/>
              </a:rPr>
              <a:t>(Laboratory excavation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E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gaton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ass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PHYS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ic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a Large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ternational Underground Laboratory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the</a:t>
            </a: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Fréjus 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tunnel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proton decay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upernovae explosio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olar and atmosphéric neutrino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neutrino super-beam and beta-beam from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CER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F2D-A6FB-4E66-B0F0-E997E78C27B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1320" y="838080"/>
            <a:ext cx="7692480" cy="40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Two examples of scenario for Water Cerenkov detecto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)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3 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5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“UNO-like” scenario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60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_____________________________________________________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&gt; In both scenarios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one additional shaft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would be necessary fo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Liquid Argon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detector of about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100 ktons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total mas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7D7-D5CB-4D08-B20A-01F9909475E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A07-364F-43EA-B73B-1B514478C9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464-06B7-4EBB-BA97-29D096C264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346680" y="29941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41832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98680" y="29955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868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1640" y="2717640"/>
            <a:ext cx="20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7680" y="2717640"/>
            <a:ext cx="38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7A1-5C3D-4B01-BC18-990644BD7CE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33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13F-6D09-4991-954A-7E0CD10CD71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-228600"/>
            <a:ext cx="8763120" cy="160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421"/>
                </a:solidFill>
                <a:latin typeface="Times New Roman"/>
              </a:rPr>
              <a:t>La “saga” du tunnel routier de sécurité du Fréjus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e31d18"/>
                </a:solidFill>
                <a:latin typeface="Times New Roman"/>
              </a:rPr>
              <a:t>diamètre du tunnel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1" sz="2400" spc="-1" strike="noStrike">
                <a:solidFill>
                  <a:srgbClr val="ff5e26"/>
                </a:solidFill>
                <a:latin typeface="Times New Roman"/>
              </a:rPr>
              <a:t>date                     partie Française            partie Italienn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mars 2001                   0.00 (zero) m                      9.5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décembre 2001                                      4.8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juin 2004                          5.50 m   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2 juillet 2004 :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réation d’un groupe de travail à ce sujet par les deux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ministres de l’équipement/transport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Français (Gilles de Robien) e Italien (Pietro Lunardi)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ette Commission devait rendre son rapport pou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le 31 Octobre 2004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septembre 2004                5.50 m                          8.3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mars 2006                                               8.20m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                                     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(Comité de Sécurité Franco-Italien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21 avril 2006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8.00 mètres “utiles”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(Commission Inter-Gouvernementale Franco-Italienne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C0F-830A-4892-9663-A5A1EA6AB12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4F9-7355-4EA9-ADA0-187E4C6D4C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5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8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3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8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766320" y="1371600"/>
            <a:ext cx="2157840" cy="2825640"/>
            <a:chOff x="3766320" y="1371600"/>
            <a:chExt cx="2157840" cy="2825640"/>
          </a:xfrm>
        </p:grpSpPr>
        <p:sp>
          <p:nvSpPr>
            <p:cNvPr id="63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766320" y="1371600"/>
              <a:ext cx="2157840" cy="2792520"/>
              <a:chOff x="3766320" y="1371600"/>
              <a:chExt cx="2157840" cy="2792520"/>
            </a:xfrm>
          </p:grpSpPr>
          <p:sp>
            <p:nvSpPr>
              <p:cNvPr id="65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75840" y="160992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66320" y="294660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89000" y="990720"/>
            <a:ext cx="4501080" cy="4732200"/>
            <a:chOff x="189000" y="990720"/>
            <a:chExt cx="4501080" cy="47322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4" name=""/>
            <p:cNvSpPr/>
            <p:nvPr/>
          </p:nvSpPr>
          <p:spPr>
            <a:xfrm>
              <a:off x="189000" y="4581720"/>
              <a:ext cx="24969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1400" y="1825920"/>
              <a:ext cx="21312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1720" y="320364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5265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10240" y="5253120"/>
              <a:ext cx="26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41148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9EE-CEA2-43F2-85CC-AD3556CFFA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47920" y="609480"/>
          <a:ext cx="6400800" cy="51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4008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1E5-76DF-44BE-973D-0C7422AEFA9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« Convergence » measurements along the Fréjus road tunnel</a:t>
            </a:r>
            <a:r>
              <a:rPr b="0" lang="en-GB" sz="4400" spc="-1" strike="noStrike">
                <a:solidFill>
                  <a:srgbClr val="2c2bd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914400" y="1066680"/>
            <a:ext cx="106934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390-666E-4E2D-9BA2-B46EEACAE5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309680"/>
            <a:ext cx="8991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of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800 m.w.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to excavat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419720" cy="306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B5B-4AA1-4965-929A-56BB364B54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5680" y="838080"/>
            <a:ext cx="696852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Main results of the Preliminary Stud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1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best sit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of the mountain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t a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depth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4800 mw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2) of the two considered shapes : “tunnel” and “shaft”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3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Cylindrical shafts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re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feasibl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up to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 diameter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e1121a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= 65 m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nd a full height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 h = 80 m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(≈ 250 000 m</a:t>
            </a:r>
            <a:r>
              <a:rPr b="0" lang="en-GB" sz="18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4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with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the volum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the shafts could be still increas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5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stimated cost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is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≈ 80 M€ X Nb of shaft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7A3-0003-4938-8B34-D99A90D5C12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4840" y="53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380880" y="2819520"/>
          <a:ext cx="510516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819520"/>
                    <a:ext cx="510516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95680" y="228600"/>
          <a:ext cx="4413240" cy="58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"/>
                    <a:ext cx="44132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5800" y="609480"/>
            <a:ext cx="35766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Exemple of “egg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shape” simulation, constrained by the rock parameter measurements made during the present tunnel and laboratory excavation.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The main feasibility criterium is that the significantly perturbated region around the cavity should not exceed a thickness of about 10 m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403-32BC-441E-B93F-56DA5E41019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5803920" cy="7718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77920" y="-34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65C-AB17-489C-9B85-3D9E8A1058A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Luigi Mosca</cp:lastModifiedBy>
  <dcterms:modified xsi:type="dcterms:W3CDTF">2006-05-10T21:19:06Z</dcterms:modified>
  <cp:revision>83</cp:revision>
  <dc:subject/>
  <dc:title>Présentation PowerPoint</dc:title>
</cp:coreProperties>
</file>